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53C-E8BD-4CB7-8CED-DA201F67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459-D402-4866-B155-F9F013B4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F4C-F56F-4791-B401-11EF78C3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C7A-7520-4FEE-9A2F-C4F920A8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BB3-D84C-4E31-A3CC-31A0EF9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38A-1060-47A1-9397-0568F02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A6A-E022-45CC-852D-62628A94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391-889B-4DE8-BED8-915D3480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0A0-2551-4A72-B0BF-0193D9DC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759-AC5E-412F-A43E-7933344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04B-7FA1-4DB3-948E-47DA0D9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5A4-D39A-49F4-99F2-C4C18D3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1A1-B70E-4491-9954-15A5FF152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6 Diffraction Chp.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’s double slit interferenc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raction and the wave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slit dif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 of single slit dif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ular aperture and double slit dif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 and resolv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-up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raction grating and sl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rted mi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ing diameter of a strand Debra’s ha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09920" y="-785520"/>
            <a:ext cx="2133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&#10;F37_07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762120" y="0"/>
            <a:ext cx="25956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733920" y="685800"/>
                <a:ext cx="2971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3581280" y="2971800"/>
                <a:ext cx="51688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,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038480" y="5638680"/>
                <a:ext cx="2946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5335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A 0.10-mm-wide slit is illuminated by light of wavelength 589nm. Consider a point P on a viewing screen on which  the diffraction patters of the slit is viewed; the point is at 3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central axis of the slit. What is the phase difference between the Huygens wavelets arriving at point P from the top and midpoint of the slit? (Hint: see Eq. 37-4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2120" y="2362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te that nm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m. From Eq. 37-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930240" y="3048120"/>
                <a:ext cx="2104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9480" y="5181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equivalent to 266.7 - 8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8 rad = 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1295280" y="3809880"/>
                <a:ext cx="36370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1295280" y="4648320"/>
                <a:ext cx="1447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Picture 9" descr="D:\Doug\Figures\F37_04editted.jpg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 rot="5332200">
            <a:off x="5485680" y="2361960"/>
            <a:ext cx="152640" cy="304920"/>
          </a:xfrm>
          <a:custGeom>
            <a:avLst/>
            <a:gdLst>
              <a:gd name="textAreaLeft" fmla="*/ 97560 w 152640"/>
              <a:gd name="textAreaRight" fmla="*/ 15300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:\Doug\Figures\F37_32.jpg"/>
          <p:cNvPicPr/>
          <p:nvPr/>
        </p:nvPicPr>
        <p:blipFill>
          <a:blip r:embed="rId1"/>
          <a:stretch/>
        </p:blipFill>
        <p:spPr>
          <a:xfrm>
            <a:off x="5181480" y="2514600"/>
            <a:ext cx="3354480" cy="245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Sound waves with frequency 3000 Hz and speed 343 m/s diffract through a rectangular opening of a speaker cabinet and into a large auditorium. The opening, which has a horizontal width of 30.0 cm, faces a wall 100 m away. Where along that wall will a listener be at the first diffraction minimum and thus have difficult hearing the sound? (Neglect reflection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685800" y="2514600"/>
            <a:ext cx="4208400" cy="1755720"/>
            <a:chOff x="685800" y="2514600"/>
            <a:chExt cx="4208400" cy="1755720"/>
          </a:xfrm>
        </p:grpSpPr>
        <p:sp>
          <p:nvSpPr>
            <p:cNvPr id="133" name="Text Box 6"/>
            <p:cNvSpPr/>
            <p:nvPr/>
          </p:nvSpPr>
          <p:spPr>
            <a:xfrm>
              <a:off x="685800" y="251460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 the first minimum be a distance y from the central axis which is perpendicular to the speaker.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7"/>
                <p:cNvSpPr txBox="1"/>
                <p:nvPr/>
              </p:nvSpPr>
              <p:spPr>
                <a:xfrm>
                  <a:off x="762120" y="3505320"/>
                  <a:ext cx="413208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mλ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for  m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8"/>
          <p:cNvGrpSpPr/>
          <p:nvPr/>
        </p:nvGrpSpPr>
        <p:grpSpPr>
          <a:xfrm>
            <a:off x="685800" y="4343400"/>
            <a:ext cx="3813120" cy="1166760"/>
            <a:chOff x="685800" y="4343400"/>
            <a:chExt cx="3813120" cy="1166760"/>
          </a:xfrm>
        </p:grpSpPr>
        <p:sp>
          <p:nvSpPr>
            <p:cNvPr id="136" name="Text Box 9"/>
            <p:cNvSpPr/>
            <p:nvPr/>
          </p:nvSpPr>
          <p:spPr>
            <a:xfrm>
              <a:off x="685800" y="43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refor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10"/>
                <p:cNvSpPr txBox="1"/>
                <p:nvPr/>
              </p:nvSpPr>
              <p:spPr>
                <a:xfrm>
                  <a:off x="1295280" y="4724280"/>
                  <a:ext cx="320364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  <m:r>
                                        <m:t xml:space="preserve">/</m:t>
                                      </m:r>
                                      <m:r>
                                        <m:t xml:space="preserve">λ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f</m:t>
                                      </m:r>
                                      <m:r>
                                        <m:t xml:space="preserve">/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2895480" y="5562720"/>
                <a:ext cx="4257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0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0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z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3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12"/>
          <p:cNvSpPr/>
          <p:nvPr/>
        </p:nvSpPr>
        <p:spPr>
          <a:xfrm>
            <a:off x="5257800" y="3581280"/>
            <a:ext cx="3200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845820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846000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16"/>
          <p:cNvSpPr/>
          <p:nvPr/>
        </p:nvSpPr>
        <p:spPr>
          <a:xfrm>
            <a:off x="6477120" y="3568680"/>
            <a:ext cx="75960" cy="168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630840" y="35053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and Interference by a double s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79520" y="1287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I (double slit interference) x I(diffr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762120" y="1905120"/>
                <a:ext cx="34113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´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803160" y="2971800"/>
                <a:ext cx="6243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dsin</m:t>
                    </m:r>
                    <m:r>
                      <m:t xml:space="preserve">q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λ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0,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38080" y="3962520"/>
                <a:ext cx="5969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asin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   m=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ini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blem 37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&#10;F37_15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0" y="2701800"/>
            <a:ext cx="533412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752480" y="1295280"/>
                <a:ext cx="1447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5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nn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Text Box 5"/>
          <p:cNvSpPr/>
          <p:nvPr/>
        </p:nvSpPr>
        <p:spPr>
          <a:xfrm>
            <a:off x="358920" y="441360"/>
            <a:ext cx="79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right interference fringes fall within th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of the diffraction enve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95080" y="15080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759200" y="1143000"/>
            <a:ext cx="43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here i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gle where the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ccurs of the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el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334120" y="2819520"/>
                <a:ext cx="34290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λ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9"/>
          <p:cNvSpPr/>
          <p:nvPr/>
        </p:nvSpPr>
        <p:spPr>
          <a:xfrm>
            <a:off x="5639040" y="4267080"/>
            <a:ext cx="30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 m=0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1,2,3 and 4 on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s of central 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49600" y="5715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 i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by a circular a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00840" y="114300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minimum for the diffraction of light from a 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rature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762120" y="1981080"/>
                <a:ext cx="20001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5"/>
          <p:cNvSpPr/>
          <p:nvPr/>
        </p:nvSpPr>
        <p:spPr>
          <a:xfrm>
            <a:off x="2971800" y="190512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 is the diameter of the a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67880" y="2514600"/>
            <a:ext cx="83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ability to resolve two distant point like objects is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rst minimum of one objects diffraction pattern overl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ral maximum of another. This is called Raleigh’s criter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990720" y="3809880"/>
                <a:ext cx="223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aleigh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Criterion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14"/>
          <p:cNvSpPr/>
          <p:nvPr/>
        </p:nvSpPr>
        <p:spPr>
          <a:xfrm>
            <a:off x="975240" y="501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5E. The two headlights of an approaching automobile are 1.4 m apart. Assume the pupil diameter is 5.0 mm and the wavelength of light is 550 nm.  (a) At what angular distance will the eye resolve  them and (b) at what dist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90720" y="4648320"/>
                <a:ext cx="269244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ra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838080" y="2286000"/>
                <a:ext cx="1524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838080" y="2666880"/>
                <a:ext cx="3672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50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m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62120" y="3124080"/>
                <a:ext cx="23079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8"/>
          <p:cNvSpPr/>
          <p:nvPr/>
        </p:nvSpPr>
        <p:spPr>
          <a:xfrm>
            <a:off x="822240" y="1905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67760" y="4038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4114800" y="426672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4114800" y="464832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463080" y="432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64771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244120" y="47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4648320" y="5257800"/>
                <a:ext cx="15238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9"/>
              <p:cNvSpPr txBox="1"/>
              <p:nvPr/>
            </p:nvSpPr>
            <p:spPr>
              <a:xfrm>
                <a:off x="5181480" y="449568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Arc 20"/>
          <p:cNvSpPr/>
          <p:nvPr/>
        </p:nvSpPr>
        <p:spPr>
          <a:xfrm>
            <a:off x="5029200" y="4495680"/>
            <a:ext cx="1522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G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3280" y="6858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lit  -- N slits or ru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&#10;F37_18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609480" y="1219320"/>
            <a:ext cx="3084480" cy="419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&#10;F37_17.JPG                                                     00147000_x0008_HRW_IRCD                       B5B59CFC:"/>
          <p:cNvPicPr/>
          <p:nvPr/>
        </p:nvPicPr>
        <p:blipFill>
          <a:blip r:embed="rId2"/>
          <a:stretch/>
        </p:blipFill>
        <p:spPr>
          <a:xfrm>
            <a:off x="4952880" y="1676520"/>
            <a:ext cx="3810240" cy="367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685800" y="5638680"/>
                <a:ext cx="3200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λ</m:t>
                    </m:r>
                    <m:r>
                      <m:rPr>
                        <m:lit/>
                        <m:nor/>
                      </m:rPr>
                      <m:t xml:space="preserve">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7"/>
          <p:cNvSpPr/>
          <p:nvPr/>
        </p:nvSpPr>
        <p:spPr>
          <a:xfrm>
            <a:off x="898560" y="608004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w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892600" y="609588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w is the entire width of the g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304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3049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380880" y="1295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38088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307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wavelength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685800" y="1752480"/>
                <a:ext cx="2408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454680" y="838080"/>
            <a:ext cx="79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 angles of diffracted lines with a spectroscope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ula below. Then relate to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685800" y="2209680"/>
                <a:ext cx="21337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609480" y="3962520"/>
                <a:ext cx="23623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Text Box 7"/>
          <p:cNvSpPr/>
          <p:nvPr/>
        </p:nvSpPr>
        <p:spPr>
          <a:xfrm>
            <a:off x="455400" y="3048120"/>
            <a:ext cx="44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ving power of grat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the narrowness of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80160" y="47242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ersion of a gr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ow well lines are sepa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771480" y="5791320"/>
                <a:ext cx="2495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Dq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1" name="Picture 10" descr="&#10;F37_24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4959360" y="1676520"/>
            <a:ext cx="3821040" cy="48765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7316280" y="31240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7468920" y="45720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7238880" y="35053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 flipH="1">
            <a:off x="7772040" y="49528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71629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diffraction gratings with increasing N and single slit diffraction with varying slit width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’s Double Sl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_x0015_Pages from F36_06.jpg                                          000161FE_x0004_vic4                           B8AA18DE: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436896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2743200" y="37339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231040" y="35812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215200" y="30844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231040" y="40384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8231040" y="4419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8154720" y="26668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4419720" y="2895120"/>
            <a:ext cx="2971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rc 11"/>
          <p:cNvSpPr/>
          <p:nvPr/>
        </p:nvSpPr>
        <p:spPr>
          <a:xfrm>
            <a:off x="5486400" y="3429000"/>
            <a:ext cx="228600" cy="3078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793480" y="33098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4197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3915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419720" y="5943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617220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777280" y="575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708840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7238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723888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inets Complementar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893880" y="1736640"/>
            <a:ext cx="77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iffraction region the intensity is the same wheth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aperature or opaque disk. You can also replace a s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wire or hair strand. A compact disk is an example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grating in reflection instead of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83880" y="3581280"/>
            <a:ext cx="77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: Measure diameter of a strand of hair from De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1143000" y="4191120"/>
                <a:ext cx="544680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first</m:t>
                        </m:r>
                        <m:r>
                          <m:rPr>
                            <m:lit/>
                            <m:nor/>
                          </m:rPr>
                          <m:t xml:space="preserve">diffraction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imu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/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371600" y="365760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438280" y="40384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886200" y="44956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324480" y="365760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0880" y="3276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181480" y="40384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06360" y="3200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373040" y="3581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363760" y="396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11430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1143000" y="32767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2590920" y="403848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42670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4267080" y="434304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56272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5945040" y="396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7164360" y="3581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 flipV="1">
            <a:off x="5562720" y="3962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V="1">
            <a:off x="6477120" y="36572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6934320" y="3276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7697880" y="3200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 flipV="1">
            <a:off x="693432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V="1">
            <a:off x="7391520" y="2743200"/>
            <a:ext cx="609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5"/>
          <p:cNvSpPr/>
          <p:nvPr/>
        </p:nvSpPr>
        <p:spPr>
          <a:xfrm>
            <a:off x="380880" y="26668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136440" y="22096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7985880" y="2117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8"/>
          <p:cNvSpPr/>
          <p:nvPr/>
        </p:nvSpPr>
        <p:spPr>
          <a:xfrm flipV="1">
            <a:off x="457200" y="4876560"/>
            <a:ext cx="8381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830880" y="4952880"/>
            <a:ext cx="805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road causes gradient in the index of refraction that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increase the distance from the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603360" y="5943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emo before you the gradient is in the opposit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1981080"/>
            <a:ext cx="89154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RW6 37.CQ.02. [73994] You are conducting a single-slit diffraction experiment with light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wavelength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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(a) What appears, on a distant viewing screen, at a point at which the top and bottom rays through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slit have a path length difference equal to 5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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5 max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5 min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4 min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4 max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(b) What appears, on a distant viewing screen, at a point at which the top and bottom rays throug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slit have a path length difference equal to 4.5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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inimum between the m = 4 and m = 5 min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inimum between the m = 4 and m = 5 max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aximum between the m = 4 and m = 5 max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aximum between the m = 4 and m = 5 minim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&#10;F36_08.JPG                                                     00145000_x0008_HRW_IRCD                       B5B59CFC:"/>
          <p:cNvPicPr/>
          <p:nvPr/>
        </p:nvPicPr>
        <p:blipFill>
          <a:blip r:embed="rId1"/>
          <a:stretch/>
        </p:blipFill>
        <p:spPr>
          <a:xfrm>
            <a:off x="838080" y="0"/>
            <a:ext cx="344196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4495680" y="1600200"/>
                <a:ext cx="12193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λ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3962520" y="6324480"/>
                <a:ext cx="8539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4724280" y="457200"/>
                <a:ext cx="3916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λ</m:t>
                    </m:r>
                    <m:r>
                      <m:rPr>
                        <m:lit/>
                        <m:nor/>
                      </m:rPr>
                      <m:t xml:space="preserve"> 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aximu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962520" y="4876920"/>
                <a:ext cx="4437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inimu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495680" y="914400"/>
                <a:ext cx="4137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or  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»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4724280" y="2666880"/>
          <a:ext cx="1143000" cy="1820880"/>
        </p:xfrm>
        <a:graphic>
          <a:graphicData uri="http://schemas.openxmlformats.org/drawingml/2006/table">
            <a:tbl>
              <a:tblPr/>
              <a:tblGrid>
                <a:gridCol w="339840"/>
                <a:gridCol w="80316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 baseline="-25000">
                          <a:solidFill>
                            <a:srgbClr val="ff8000"/>
                          </a:solidFill>
                          <a:latin typeface="Times New Roman"/>
                        </a:rPr>
                        <a:t>m 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2D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33"/>
          <p:cNvSpPr/>
          <p:nvPr/>
        </p:nvSpPr>
        <p:spPr>
          <a:xfrm>
            <a:off x="4648680" y="2286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Ma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05720" y="2666880"/>
          <a:ext cx="1295280" cy="1828800"/>
        </p:xfrm>
        <a:graphic>
          <a:graphicData uri="http://schemas.openxmlformats.org/drawingml/2006/table">
            <a:tbl>
              <a:tblPr/>
              <a:tblGrid>
                <a:gridCol w="385560"/>
                <a:gridCol w="9097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52"/>
          <p:cNvSpPr/>
          <p:nvPr/>
        </p:nvSpPr>
        <p:spPr>
          <a:xfrm>
            <a:off x="6782040" y="2286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3"/>
              <p:cNvSpPr txBox="1"/>
              <p:nvPr/>
            </p:nvSpPr>
            <p:spPr>
              <a:xfrm>
                <a:off x="4253040" y="5486400"/>
                <a:ext cx="1842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λ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the intensity of light along the scre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990720" y="18288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f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Picture 4" descr="&#10;F36_09.JPG                                                     00145000_x0008_HRW_IRCD                       B5B59CFC: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E Suppose that Young’s experiment is performed with blue-green light of 500 nm. The slits are 1.2mm apart, and the viewing screen is 5.4 m from the slits. How far apart the bright fri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816840" y="204156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table on the previous slide we see that the s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bright fring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038480" y="2438280"/>
                <a:ext cx="7621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D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838080" y="3276720"/>
                <a:ext cx="462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Dλ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2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2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0920" y="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of a single s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&#10;F37_04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336600" y="0"/>
            <a:ext cx="306864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4267080" y="1066680"/>
                <a:ext cx="4343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th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ength difference between 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d 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 the first minimu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4343400" y="2209680"/>
                <a:ext cx="1295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4267080" y="2666880"/>
                <a:ext cx="41198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λ</m:t>
                    </m:r>
                    <m:r>
                      <m:rPr>
                        <m:lit/>
                        <m:nor/>
                      </m:rPr>
                      <m:t xml:space="preserve">  m=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ini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9"/>
          <p:cNvSpPr/>
          <p:nvPr/>
        </p:nvSpPr>
        <p:spPr>
          <a:xfrm>
            <a:off x="4267440" y="609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267800" y="44197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844800" y="4800600"/>
            <a:ext cx="5042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aximum lies on the axis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  Other maxima lie in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a. To find them we ne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intensity along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342900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34290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35053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3365280" y="160020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7"/>
              <p:cNvSpPr txBox="1"/>
              <p:nvPr/>
            </p:nvSpPr>
            <p:spPr>
              <a:xfrm>
                <a:off x="4267080" y="3048120"/>
                <a:ext cx="4442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or  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»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8"/>
              <p:cNvSpPr txBox="1"/>
              <p:nvPr/>
            </p:nvSpPr>
            <p:spPr>
              <a:xfrm>
                <a:off x="4267080" y="3581280"/>
                <a:ext cx="253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»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of single slit 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&#10;F37_08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457200" y="914400"/>
            <a:ext cx="4680000" cy="541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&#10;F37_05.JPG                                                     00147000_x0008_HRW_IRCD                       B5B59CFC:"/>
          <p:cNvPicPr/>
          <p:nvPr/>
        </p:nvPicPr>
        <p:blipFill>
          <a:blip r:embed="rId2"/>
          <a:stretch/>
        </p:blipFill>
        <p:spPr>
          <a:xfrm>
            <a:off x="5638680" y="0"/>
            <a:ext cx="35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a/Minima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22240" y="188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457200" y="1295280"/>
                <a:ext cx="5734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rPr>
                        <m:lit/>
                        <m:nor/>
                      </m:rPr>
                      <m:t xml:space="preserve">differen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ath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rPr>
                        <m:lit/>
                        <m:nor/>
                      </m:rPr>
                      <m:t xml:space="preserve"> differen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533520" y="2209680"/>
                <a:ext cx="2120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609480" y="3124080"/>
                <a:ext cx="2210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86200" y="3200400"/>
                <a:ext cx="1754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304920" y="4343400"/>
                <a:ext cx="5181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ima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»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172200" y="4343400"/>
                <a:ext cx="1981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457200" y="5257800"/>
                <a:ext cx="4438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a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p</m:t>
                    </m:r>
                    <m:r>
                      <m:rPr>
                        <m:lit/>
                        <m:nor/>
                      </m:rPr>
                      <m:t xml:space="preserve">     m=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6324480" y="5334120"/>
                <a:ext cx="13287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solution for max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09480" y="1828800"/>
                <a:ext cx="45309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838080" y="3581280"/>
                <a:ext cx="441972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t xml:space="preserve">dα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066680" y="990720"/>
                <a:ext cx="11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743040" y="59277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endental equation. Solve  graph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79680" y="289548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maxima of a  function, take derivative and set equal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1600200" y="5714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21:35:27Z</dcterms:created>
  <dc:creator>Richard Lindgren</dc:creator>
  <dc:description/>
  <dc:language>en-US</dc:language>
  <cp:lastModifiedBy>MSU-IIT IDS</cp:lastModifiedBy>
  <dcterms:modified xsi:type="dcterms:W3CDTF">2011-02-07T18:18:09Z</dcterms:modified>
  <cp:revision>21</cp:revision>
  <dc:subject/>
  <dc:title>PowerPoint Presentation</dc:title>
</cp:coreProperties>
</file>